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100-59F1-4D72-89FC-C903939E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F0C-7778-4F5C-AA0C-C85DEA8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1D37-DFC3-47FC-974A-0B6E6555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62E5-66BB-47BF-9988-60A0BA99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10520-9255-4ED7-9DC3-967A229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5FA80-55A1-449B-BE31-8C702F81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3A699-C881-4F90-9366-7DB917F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FAA9-CD77-419B-9CE6-834B1DD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01096-DDB6-4F29-B541-A5DA4E4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88D20-814C-4BB0-8845-2637D316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E6DD-CA7B-4C31-9E46-489498D8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5A80A-5EF9-4F08-A9C5-2DD01F55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9BF-64C4-4365-B6C4-D936EFF7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5FFF2-D0E2-4E0A-BB77-D50C1DA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315C-D5A4-4E29-9794-3D32B5A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B9CA9-B5F8-4216-84CB-F9645224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80A93-6D30-48E1-9DD2-2A01973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F525A-D33D-470D-B4FE-1E5B1EC7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B11BC-C17A-4B06-ADB3-A7A9578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E6F09-FA85-4937-8EB6-5AAEEB59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62B8-0746-460D-A29E-BD6BAA2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60284-3162-483F-9545-428B4D4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79165-04AB-4A0E-A0E1-94C77E10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46C-2787-4CD2-8370-BFE8256A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4BE8D-1DBA-4412-A25B-3643FAAD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0CB2-0DDB-475F-A952-86510F3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66B0E-AC59-4BBC-8E52-069965F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E77F-F82E-40E9-9925-E18BC68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CE247-8744-4C1C-BF8E-CE5A0DF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D3C64-8F52-4402-BCB5-2870543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9E36A-D0A1-4232-B5F9-BFE263E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30F78-70BE-4128-BE89-4FBEEF0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1657-FD59-4A5D-A1C8-60D5CE5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6635-14EC-4D3E-B73B-AC17FB4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E38-72A3-4040-B008-78B2933E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BB4CD-CD2D-4A86-AC7D-D7F6F9D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0379-1F3C-400A-87F3-EEC3A4B5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12F9E-C2D4-4CFF-BD4F-43C6CF2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EF04B-62DC-4813-A2B6-C8C527FC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15B3-18BA-45C4-8E28-6E49904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99440-70DC-46DA-92E5-1D29E76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003FF-139D-4F5A-9EE5-8FC7384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A7892-B8B3-4D24-9E78-456FE5B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E4F7D-4595-42A2-8B59-45B9266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F3B32-2305-4E1F-A192-5591447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DBF6-91F6-456A-A825-AEC06923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485D0-58C7-45BB-B6A3-26CADDD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D0761-EC55-46A5-ACF5-67CBAF6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2F665-5F5A-4556-90C8-30126E8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F20AA-667A-4D49-8D84-B3143924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11688-BB8F-4C83-BF6D-43DC707E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72BC3-68B7-40DE-A2A2-D1E52656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89BF1-1F51-4E52-AE56-CCBDDF41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73C22-E0D9-40DF-BF80-D8515A5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B914C-F8E1-4B84-8559-6D211E21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A1918-BA49-458D-994A-048A839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50C1-1578-4105-BF0D-F255898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0BAC5-ADE1-446C-9839-76ADA27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8CAD0-B26F-40FE-801B-CDC030A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A6E9C-C320-4C53-A1E0-3DCD753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923F9-6719-44D6-8599-3C39207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7E90F-807C-43C3-9ED7-DB0DD15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1FFB6-B23F-428B-8D9B-7674E6D7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47C34-C6D5-43A1-9614-2640F02E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A1FDF-A2BA-4A58-8F29-3C9F2456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FAA77-A545-47DC-963C-77327B42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32D5F-C49D-4BAD-B572-06E1AEC7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FFF-7385-4187-8650-792B74F3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B5243-8F6A-4AE2-AB63-5D1D8670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2128E-B94D-431B-9EFD-EDD3DB1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05C05-2D18-4FDD-A827-46F1A7A1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0C69E-384B-43AA-AFD5-2949745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39507-02B1-444E-8E68-7E06AFD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01ECA-C1FE-4708-A6C7-86F5E8F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B85FA-C12A-4109-AC6C-23BC743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76B46-A68C-447B-9B6A-BFBE4DC5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E46A8-E133-40E8-9A64-C21A1065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4AEC4-FD94-4ADD-8D42-21EC1BF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4B08-B665-4685-B80F-EFEE00B6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1EAEB-903C-43C4-9B0E-81B9214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8D1F7-2E6B-496E-8070-34A9E2D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7225D-8DBE-441A-9031-89EABBB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8AADC-67BC-4326-B284-42A6F4B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4C0DF-4355-4778-9EB4-47875789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B91B8-8BE2-4EAC-86C3-64D99D2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5668D-D0E7-44CD-B2A0-8F472BC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584E8-27CE-40C0-B860-6093E06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E3E26-A1F9-4834-9F96-87332880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7B8E7-EA3F-4C94-8E09-6B10449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125-B61B-46C5-8B82-00A8D394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EB179-EC33-4215-8ADA-FDDEC9F5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36218-2568-4A17-9FBC-A7E380D1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A4CAA-04E4-4080-B91A-2D2C60F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08255-2C0B-4EA2-8AC4-2766C59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E2EA0-0D8B-40E6-B823-DEF9BF6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BF319-3396-4BF0-8060-20723F7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4E5FD-3575-44F0-B65D-366D33CE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D7C62-86EF-4D4D-9B46-CCD6032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80723-F43E-4851-AC9F-82552FE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A0536-E0F9-4809-A703-9E0860A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B6BE-4DC6-4E41-BF4B-4B119E8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545B4-2979-4F0B-9CD6-44E9D36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286AA-134C-42AC-B157-8B20C029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888C7-93AD-4DC2-929F-2CAFFDD6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09121-D4E4-406A-9D1D-752ABD15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1075B-D5D5-4956-8C82-44F8E05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12EF5-BD82-4168-8405-B70300D2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7978C-EC1A-4B82-9C3F-028798BE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B1D8B-EAA0-40B6-82D9-E4871670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B26A0-76FC-4053-9D4A-98030C0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03E6C-A93C-4680-996E-D072EAD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E33-2AC1-4073-8285-5E47458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D22-2F03-4978-9875-A5F086A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46129-E8AD-42EB-90E3-99A99FB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0C3AB-2A37-46D2-A333-896B949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3BBEC-9993-4F81-A991-74492C79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E3016-12B4-4FE3-A559-699979FF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372DB-E765-45B0-B4BA-27181DDA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A8853-0A76-418A-932B-6CA51C72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EBA5A-6B31-4590-A634-D217FC8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F9D0B-2D43-42B0-AF51-285E686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01E49-C51B-41F3-82D2-D55C81C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4F503-E137-4152-8814-53529B58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758-C3F1-4565-8754-5A65383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5C7BC-8DFC-4B5B-844F-B4AB8A5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5D43F-0D2E-4EB1-BB83-2E050DE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2A87A-5183-4AD3-85AA-588776C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D0708-351B-465D-B7EB-A439675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30783-4CC6-4EB4-B2FA-58B8B11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4FE7D-2FF1-4C9F-85C4-DF640206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0E34D-3825-4C89-A5B5-91378284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CD764-56A5-465A-AAA4-44D2E2D3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C56E8-63C5-4DEE-9683-EE8E83F6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CCA56-5C8E-4F60-A5E6-3CD8D1D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6821-A61E-48FA-8249-28A15AF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6D9D3-CE3C-4BF0-8182-098AE8FF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65586-6CF8-4727-A2FD-446580EA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E0A52-3696-41B9-99FE-8D17B694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A5B3A-615E-4A99-9477-FECF55C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B7547-206A-431A-BCD1-5308D48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41407-6B2A-4377-9F0C-E9D1DFB2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39515-8300-4DA6-BC83-8154C03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1646F-1D46-499B-BD4D-F2E7A835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8A1C6-DE8E-49F4-B00E-CD497642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7C705-AFDA-41B8-96C2-87C2C3DB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2F7-E0AF-4935-BFDC-C50D65D7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96CED-410E-43F6-AF9D-9A8CBA8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32035-610C-4BD7-947E-8F4FB04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F6D1F-EABB-47E3-843A-FD1917E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03E9F-F67B-4689-810E-30F5998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8F01E-3B90-4FD6-9302-D1F833D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83506-BDD0-49A0-84EA-11206A9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FB2CC-7AA8-401B-AD25-0448C46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4B2C3-61D2-4A7B-B937-294D0BF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A74E3-7F7A-44C1-B707-BAAE2EF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D3D61-CD72-4BE8-974C-5251E4AD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A881-2883-4C5D-8ED9-ACAD6ABC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A474F-29DC-4BA4-9828-34703E4F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573DE-C8ED-4015-8CA5-BC2D9563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31409-4B08-418A-A6A1-7274F3F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DC2D8-A726-4920-8955-8D4B6D1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A6576-2018-4C55-A7D7-1BA4824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A3206-1FC6-40E1-A2CF-BBFCD5E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5E077-AA8D-48D4-9E82-CF5DC57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36A13-E441-4B56-BB66-4A000C3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2C017-73CF-496F-A06D-DCE13D2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0874B-0B68-4E0D-BC36-C9574B0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A5A2-79F9-4580-B390-0D05892B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94458-8E37-4471-B76E-28D3C3B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5CCBE-5BFA-4980-A8EA-275A41D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37BCF-8DAA-4188-AB23-FB217733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526F-F34E-4146-9690-19E9E6A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9618-94D5-49A0-9C60-0D3425EC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3AC9-7D0D-47F9-A59F-327789E4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A3AD-BABB-45DA-97B2-3ABFD65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A54-EC7F-46F4-A404-0631A75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53ED-9F5F-4CE6-9D57-6C124B6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8EBE-A6D7-4C78-BC81-8F4B994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5A6B-C092-4912-9E46-6F4C975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6A45-D694-4C91-B8A3-1529C4D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8EE43-EDB6-4C5D-877D-0ED11F0E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E5C1-13D4-42B8-B60E-A129C8BC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A4BE-8B18-4880-ABE6-0D8FC53E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121D-5F41-42DC-A895-78910C2E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D6F2-DA53-4A6F-8347-D72A43A5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DA71-875D-4C02-811C-FA56175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FBB-3A96-450F-8DF4-9ED66BAC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2808-8567-4CA9-9DDF-CB39069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6564-0905-4E94-973B-5159E19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BCEC-5CB7-4C6F-9D67-4B1367F7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BDFE-BFF6-4B92-AC1F-48C89E7C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5B0D-AB9C-4234-B115-E4C9114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16C6-D6B5-4655-A266-EE4ACE0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7BE0-1E61-401E-B755-5AFCE25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185D-90F0-49B8-AE6D-5FCBEDFA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EDF1-55B9-46DC-9898-2E7EC442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D024-FF47-451F-84CF-85A171C9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7BF-6C2C-4E93-848B-9ADA230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09FA-AF57-4EB9-88BB-31BC5D0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FCEE-AF88-409D-873B-92BB147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C99C-3F72-41C3-92DE-78AF2E9C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1E10-6E29-4291-A3C7-4A03582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ACB1B-37C6-4C48-9D27-C218A7BB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1C29-9910-483B-8830-A39DD5B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1DE3-943D-4D3B-A284-2F8F7C2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FBC4-6EA1-40A9-B688-F64D19B4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1C26-7828-4B22-884F-722C805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346D-D6A6-4A59-9780-D3619C41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357-73F6-405A-863E-22924D6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0D513-4A23-4FCB-BEBF-589A2482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839A-2C95-4E78-AAD8-0E2ED9E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50A3-D772-4A32-BCAE-C210883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FA97-08D3-4502-8F08-10CC152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12CD-C971-4557-B659-280F773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FA45F-F644-4B40-B783-8CC6F1BE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FAE7-0D7D-4D39-8B37-90BD7EE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FCC2-D36A-479A-BFA3-90463BE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2A430-0D46-43B9-AE9C-03096B6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07EB2-D249-48EC-91C8-FDBA2C1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A94-8D47-4BA1-B6AD-52346FD1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A58B-99A8-4AFC-9396-57B4356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83EB-3B77-4809-B2D5-E84FF623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3CC5-E3C1-49AB-BADB-5703004B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4B71-1855-4892-A8E8-24D8629D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9B556-1CCD-48AA-871D-1025CDD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1D1C-9102-4F03-9F2A-C41EC60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3129-F3D5-4D1F-8EFC-84932F77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FE60-7A3B-4461-B6E5-B4079612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0395-A752-443B-8D6B-BED3383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94B2E-3B04-492B-AA69-7B914A2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B0B-06F6-4C54-80A2-FCFB2F0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738B-C2FE-48B7-85BF-DB1BA3D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486E-5985-4E33-A5B8-81567B6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476B-9795-44DA-91B5-FDB80923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640B-0490-4F33-BE87-CC31C715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A5ADB-6401-43D3-9317-942D6B8E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7303-5778-4BE6-8FED-3F8BB81C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8A74E-BA1E-4CFF-9654-724768A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CBFF-C0E8-4CDB-AB9A-D25B618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00104-6C7E-486B-B6DB-996868F5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C8C2-0F19-4452-A4B7-01C23D5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014-2D7A-41F6-B48D-BD8F857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E565-599F-4BE4-B4A6-D74EC6E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99AB-3D0A-4AC3-9ABA-873D157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D9D7-D62F-47C6-A8CB-4EE6538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E244-16F0-47DB-97EA-CEC21717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4096-EF3F-48A7-9A7D-07D9C79B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BF4B6-D7C6-4B5B-B745-C9D4DCEB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B97C-1997-405E-A029-F6531A1C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C9126-B9A4-4F76-81F1-DA61CE4B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5A5B-317A-4931-96A4-9EED9577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B27AE-1900-4F5A-8085-77F2ED10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32A8-34BB-481B-992C-F9ABC5289D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EC4-10E6-466C-85C4-C9B7F67C6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AA5-B418-4622-9D5F-AE0BDB90F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BE5-C233-405C-A477-D5E8FED19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911-E83C-472E-BC90-CD4CAF9DE5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4E3-BE70-4251-A258-89EB4DE20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F226-B48F-4CA3-9FE6-2BCF445ED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2FF-CA35-4550-8ADA-974896FF5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D7A-B141-43CB-8137-3EC715D48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7A3-3B55-40E6-86F1-C1CA7547C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2922-D23E-47FE-B2A6-750BA971F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EC2-9574-40D2-9A50-87EFA9357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B03-368D-434C-9583-B05F2CC28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5C2-B6B3-4619-993C-BA4A47B38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220-E5FA-4C0A-917B-5EE7F251A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BA9E-C216-466B-9D2D-740E32C25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527-0A5C-435F-8E35-59BE530A2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7ECF-C3B2-44A4-A498-4E87174B9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177-35D1-4154-BA3F-C85166A81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DB39-6618-43B3-8CDA-C6C13C2F98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E8A7-6A08-4D79-87D9-E05AD8FC4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ADB-1DC1-4DED-9FEC-BAFED5A89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CE46-0970-4D60-AF81-094710FC3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127-71B5-4787-A540-0862013DE0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9D5-5D7F-4F29-A94B-5BA6EDBAC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18F-3356-44A1-A6B1-EACBE3313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B7DD-1C60-48AE-877A-8A835586F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0EDD-5F5E-4B4C-A175-C1E2543B6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F10-D7E6-4253-8C87-BDCB629DB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4F9A-D891-4132-88E7-2B5DC9FA8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5636-9C7D-4317-80A6-B40E24722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D3C-C405-427E-8413-0EC8A1A31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C4D7-6D2E-49A7-9C6A-B41192514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889B-2738-4C87-A6BC-FBAD56A53E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0E2-433B-403B-83E4-E07D39CDC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3449-D1F5-43D5-95F3-155040F57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B08-6AAE-4B55-A17F-02A9DB33A5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B9F3-DA0D-41BE-A7CF-642A1F116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943-F77B-4E77-837B-75BB0D661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310-8473-4893-B91F-AB05C3F9BD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86120" y="2995560"/>
            <a:ext cx="5171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66760" y="828720"/>
            <a:ext cx="8610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8609" descr=""/>
          <p:cNvPicPr/>
          <p:nvPr/>
        </p:nvPicPr>
        <p:blipFill>
          <a:blip r:embed="rId1"/>
          <a:stretch/>
        </p:blipFill>
        <p:spPr>
          <a:xfrm>
            <a:off x="933480" y="1514520"/>
            <a:ext cx="7277040" cy="382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116000" y="1542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044720" y="2060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1042920" y="255096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306864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898560" y="3703680"/>
            <a:ext cx="72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826920" y="422100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755640" y="4724280"/>
            <a:ext cx="80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797040"/>
            <a:ext cx="85536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00120" y="1162080"/>
            <a:ext cx="7943760" cy="4533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788000" y="12114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403280" y="247824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492360" y="314172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164360" y="314172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156360" y="375912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332000" y="5084640"/>
            <a:ext cx="619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633240" y="2152800"/>
            <a:ext cx="7877520" cy="2552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140360" y="2147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2795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1258920" y="3471840"/>
            <a:ext cx="50418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140360" y="41497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572320" cy="5209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042920" y="5530680"/>
            <a:ext cx="684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638280" y="1405080"/>
            <a:ext cx="7867440" cy="40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2751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042920" y="475452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332000" y="367344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633564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260360" y="4753080"/>
            <a:ext cx="6336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042920" y="584820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8010720" cy="274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1160" y="1519200"/>
            <a:ext cx="8581680" cy="3819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755640" y="3241800"/>
            <a:ext cx="6480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4321080"/>
            <a:ext cx="6480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1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